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405-045C-43C5-846A-913F3B91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D42-AAB8-487E-95FD-5A380D7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DE0-235F-47AF-A331-8E36E4E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A32-37F4-47BB-828E-494622CC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CEF-9706-4FEE-8766-747DD322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F89-3089-499E-8C31-1CD5B56F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39D7-23E8-426E-8061-AD26717C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CAE-10A7-4128-A10C-38BF06B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307-4B21-4690-BAFA-A082A2E9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C2B7-C0E6-4FC9-9C5E-E8D50027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2AF-431F-4E09-89DD-7F1031A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B9B-9DE2-434C-9078-80FBC233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E2F-FD8B-4510-AEF1-079429D2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B706-BE23-41CD-8145-A2591DC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17EF-63CD-48D0-97B7-F977D4F1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BA3C-FC72-4DFA-B0FF-C263FE1C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3F7-D55D-49C2-ACCA-80D7CDD9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C37-725F-43FF-B20A-A7C370F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B20-AE21-40CD-A6EF-938D298C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223-C47D-4F47-9E14-9657801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B48-E63D-43E0-BEEC-3C3272F2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0A5-CD65-425B-B1C3-46EAEB8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852-81D7-42B2-A89B-0A8BA4E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55A-2AB8-48DB-A155-0376199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4049-3850-495D-A591-652200CCE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ADFB-33D5-4E47-B929-1AA159654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8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ЕЛЕМЕНТА ДОБРОГ КЛИНИЧКОГ ПИТАЊ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435880" cy="4705200"/>
        </p:xfrm>
        <a:graphic>
          <a:graphicData uri="http://schemas.openxmlformats.org/drawingml/2006/table">
            <a:tbl>
              <a:tblPr/>
              <a:tblGrid>
                <a:gridCol w="1090440"/>
                <a:gridCol w="1936800"/>
                <a:gridCol w="1913040"/>
                <a:gridCol w="1800360"/>
                <a:gridCol w="1695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олесник или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нтервенција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зрок, третман,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оре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Како бих описао групу болесника сличних мом? Будите прецизни али крат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а је главна интервенција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је главна алтернатива интервенцији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могу очекивати да ћу постићи? или Шта ће интервенција заиста постић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болесника са инсуфицијенцијом срца због дилатативне кардиомиопатије, који су у синусном ритму……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да ли би примена варфарина код болесника који прима стандардну терапију за инсуфицијенцију срца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када се упореди са стандардном терапијо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ће мањи морталитет и морбидитет од тромбоембол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ли је то вредно повећаног ризика од крвављењ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 на интерне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одатака је скуп повезаних, међусобно усклађених информација, складиштених зајед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оци база су научноистраживачке и друге здравствене установе. Власници база  (хост, сервер) су институције које купују готове, формиране базе научних информација, чувају их и ажурирају, да би их продавали корис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125000"/>
            <a:ext cx="41716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од основних предности електронских изво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информационим сервисима 24/7 - доступни 24 часа, седам дана у недељ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примарних докумената - електронски извори нуде и примарне документе које тражимо, а не само информације о томе где се ти документи налаз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и ефикаснији приступ информацијама/документима - време приступа тражене информације знатно је смањено и више корисника има приступ информацијама истоврем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раживост примарних докумената - због индексирања целокупних колекција и у њих укључених примарних докумената, обим података који служе као основа за екстракцију информација знатно је пораста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 обухватај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е информационе сис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ајт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пи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и информациони систе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и информациони системи у ужем смислу подразумевају грађу коју библиотека поседује (интерни извори), а ако томе додамо и могућност приступа информацијама ван библиотеке (екстерни извори) до којих библиотека обезбеђује доступ, добијамо комплетне изворе информаци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ј земљи, најпознатији с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is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Kobs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и Онлине Библиографски Систем и Серв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ISS (Кооперативни Онлине Библиографски Систем и Сервиси) представља виртуелну библиотеку. То је библиотечко-информациони систем са узајамном каталогизацијом, библиографско-каталошком базом података и локалним базама података библиотека учесн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о-информацијски систем COBISS заједнички обликују библиотечко-информацијски сервис и библиотеке које учествују у систему узајамне каталогизац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и Онлине Библиографски Систем и Серв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и библиотечко-информациони систем обухвата библиотечко-информационе системе више земаља и повезује их са корисни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COBISS заснован је на </a:t>
            </a:r>
            <a:r>
              <a:rPr b="0" i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уникацији између локалних рачунарских система (сервери), који су по правилу лоцирани у већим библиотекама, и централног рачунарског система у институцији која обавља функцију библиотечко-информацијског сервиса. Све комуникације одвијају се преко Интернет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~PP3744.WAV" descr=""/>
          <p:cNvPicPr/>
          <p:nvPr/>
        </p:nvPicPr>
        <p:blipFill>
          <a:blip r:embed="rId1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орцијум Библиотека Србије за Обједињену Набав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СОН (Конзорцијум Библиотека Србије за Обједињену Набавку) је нови облик организовања библиотека Србије, који  преговара о претплати и склапа уговоре о правима корисника за приступ електронским изворима на централизованој основи за све истраживаче, наставнике и студенте у Србиј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тива за формирање Конзорцијума покренута је новембра 2001. Иницијатори су били управници водећих научних библиотека у Србији (Народне библиотеке Србије - Београд, Библиотеке Матице српске - Нови Сад, Универзитетске библиотеке "Светозар Марковић" - Београд, Универзитетске библиотеке "Никола Тесла"- Ниш, Универзитетске библиотеке - Крагујевац, Библиотеке САНУ - Београд), као и представници Заједнице универзитетских библиотека и Заједнице библиотека у Србиј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циљеви удруживања с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авка страних научних информац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ак са папирних издања на електро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апређење приступа електронским информациј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СОН нам омогућава коришћење електронских ресурса (база података часописа) преко посебне wеб странице и формиране е-маил листе корис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часопис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научни часо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 објављен у научном часопису треба да пружи увид стручној јавности у  методологију која ствара могућности за развој нових истраживања и подстиче стручну јавност на дискусију представљених резулт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заснована на доказ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 је “пажљива, промишљена употреба најбољих доказа из медицинске литературе у доношењу одлуке о лечењу конкретног болесника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значи да се индивидуално клиничко искуство интегрише са најбољим клиничким доказима из систематског истражи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научни часоп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дардна форма научног рукопи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с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исак ау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жет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в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теријал и мет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зултати (са табелама и графикони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иску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хвал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научни часо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13000"/>
            <a:ext cx="4186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ључне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тек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кус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219280" y="1413000"/>
            <a:ext cx="346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л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и материј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4"/>
          <p:cNvSpPr/>
          <p:nvPr/>
        </p:nvSpPr>
        <p:spPr>
          <a:xfrm>
            <a:off x="3132000" y="1557360"/>
            <a:ext cx="1656000" cy="1366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ставне за индексирње и претрагу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132000" y="3213000"/>
            <a:ext cx="1584360" cy="273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95280" y="5300640"/>
            <a:ext cx="2448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ма пропозицијама часопи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е довољно специфичан за представљено и описано основно научно питање којим се рад бав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 треба да буде разумљив и намењен широј научној јавност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 треба да укаже на популацију испитаник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а је ефектније ако наслов указује на најзначајније резултат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: Наслов треба да има научни а не маркетиншки садржај!!!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к ау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аутор – највећи допринос писању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-аутори – учешће у различитим фазама израде рукопи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 увид стручној јавности у почетно истраживачко питање и основне резултате ра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рукопис треба да буде писан у мање формалном сти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вном структуиран и садржи : увод и циљ, материјал и методе, резултате и закључ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: 300 речи ( у зависности од захтева часопис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je након писања рада написати саже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делу не користити скраћенице нити наводити литера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д сажетка навести кључне речи – препорука је да се помињу у р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ирати у три 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м делу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укратк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ести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е чињенице о теми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угом делу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ратко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и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ни данас није јасн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ези са темом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ећем делу увода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ратко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и коју нову научну информацију ће рад донети и формулисати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тврдња која је резултат неке друге публикације мора бити подржана референцом (сем уколико није резултат ауторовог истраживања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референца мора бити наведена како у тексту рукописа (на начин како је то регулисано у Упутству за ауторе) тако и у одељку Литератур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референци у делу Литература мора да одговара редоследу појављивања референци у рукопи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траживачког рад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а која се истраж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 студије који је коришћен (врста студија, кохортна, случај - контро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ти групе које се испитују према узроку (независне варијабл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исходе који се прате (зависне варијаб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снагу студије и начин одређивања величине груп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статистичке тестове који ће се користити у фази обраде резулта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егледног рад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претраживања референтних база података, кључне речи, као и резултат претраг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процену пронађених публик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које студије нису прошле селекцију и заш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и квалитет сваке од студија која је пронађена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а фармације засноване на доказ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ЗД)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нтеграција клиничког искуств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редности пацијента и најбољих доказа из литературе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 сами по себи не доводе до закључак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само помажу у одређивању најбољег третмана пацијен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 обично се започиње приликом прегледа пацијен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генеришу питања о ефектима лечењ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ности дијагностичког теста или прогнози болести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 захтева нове вештине од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етраживање литературе и примену формалних правила за евалуацију доказа из литературе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цену квалитета клиничких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рандомизира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рандомизација урађена независно од истраживач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групе сличне на почетку по заступљености прогностичких факто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мерење исхода био независно од истраживач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цену квалитета клиничких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били наведени критеријуми за укључење пацијена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нега пацијената била независна од истраживач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двоструко сле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риказана средња вредност исхода уз варијабилнос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узети у обзир сви пацијенти који су започели студиј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 смо решили истраживачко питање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ек треба обезбедити довољно информација како би и други истраживачи могли да понове наведену методологију (корисно је потражити радове са истом методологијо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олико је протокол компликован дијаграм, схема могу бити корис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се не описују у овом делу рад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ложити питања која се односе на етички аспект извођења студ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ки ра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све добијене резултате по логичном редосл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резултат приказати табеларно или графи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умачити резултате у овом делу рад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нављати резултате у тексту и у таб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део рада треба да буде приказан као једна ц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водити све што је добијено у експерименту, студији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говарајући начин приказати резултате како би описали на прави начин шта је стварно у истраживању урађ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е и граф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као посебан документ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 табеле или графика је обавезан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табеле или графике само ако су неопходни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и добијени резултат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тарисати у светлу резултата сличних истраживањ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понављати тврдње из дела Резултати 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умачити добијене резултате у односу на почетно питањ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 ли резултати подржавају почетну хипотез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олико се резултати разликују од почетне хипотезе треба пронаћи објашњењ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 ли постоји други начин за тумачење резултат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ја будућа истраживања су неопходна како би се истраживачко питање боље разјаснил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 се резултати нашег истраживања уклапају у “ширу“ слик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мирати у једној реченици закључак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л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организацију или појединца који су олакшали извођење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по редоследу како се појављују у р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мерисати редним бројевима од 1 па на да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а 3 пацијента фармацеут у просеку генерише 2 питања на која не може да пружи одго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00. години било је око 10,000 научних часописа; у 1990 било је више од 100,000 научних часописа; 90% свих најкрупнијих открића у науци је објављено у 150 од ових 100,000 публикаци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– приме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ођења референци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uver Style Citation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часопис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сви аутори се наводе ак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је 6 или мање; ако их је више, наводе с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прва три уз 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ey NJ, ZinsmeisterAR, Schleck CD, Melton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epsi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yspeptic subgroups: a population based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. Gastroenterology 1992; 102: 1259-6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rlock S. Diseases of the live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iliary system. 8th ed. Oxford: Blackwell S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, 1989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е у књизи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r JJ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iac sprue. In: Sleisenger MH, Fordtran JS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s. Gastrointestinal disease. 4th ed. Philadelphia:WB Saunders Co, 1989: 1134-5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са веб страниц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xaparin. Summary of product characteristics. Aventis Pharmaceuticals Inc, 2004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ww.aventis-us.com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дњи пут веб страница посећена: 14.4.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задаци у раду са болесницима због којих се постављају пит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налаз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на одговарајући начин тумачити симптоме и знаке код болес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наћи узрок бол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 дијагноз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рангирати све могуће дијагнозе по вероватноћи, озбиљности и подложности лечењ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и тес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изабрати и интерпретирати дијагностички те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задаци у раду са болесницима због којих се постављају пи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проценити вероватни ток болести код болесника и предвидети комплик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апиј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 изабрати лечење које више користи него што штет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оје вреди напора и трошков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открити и изменити факторе ризика, како рано открити болест скрининг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вршавање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побољшати своје клиничке вештине и своју пракс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то практично значи? Кораци у спровођењу фармације засноване на дока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нашег пацијента постоји одређени здравствен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треба да проблем прецизно дефинишемо. На пример: “Да ли постоји дијетални суплемент који може да снизи повишени артеријски притисак код одраслих пацијената са есенцијалном хипертензијом у фази 1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ци у спровођењу фармације засноване на доказ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налазимо св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е студиј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у публиковане на ту 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ронађених публикованих студија издвајамо само оне које с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шки исправно урађе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акле валидне) и чији резултат ј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издвојених студија формулишемо решење проблема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мо решење на пац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ЕЛЕМЕНТА ДОБРОГ КЛИНИЧКОГ ПИТАЊ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 ил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зрок, третман, итд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6:42:23Z</dcterms:created>
  <dc:creator>Marina Kostic</dc:creator>
  <dc:description/>
  <dc:language>en-US</dc:language>
  <cp:lastModifiedBy>Marina Kostic</cp:lastModifiedBy>
  <dcterms:modified xsi:type="dcterms:W3CDTF">2023-09-11T10:14:47Z</dcterms:modified>
  <cp:revision>29</cp:revision>
  <dc:subject/>
  <dc:title>Фармација заснована на доказима</dc:title>
</cp:coreProperties>
</file>